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9C1-CA70-447E-8F5E-1403BAA1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C84-3E5C-4DDE-A8E7-F01F498C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5DF-2DC5-4A92-9B32-009E565E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F09-7BA5-4B26-AC8E-7A57A968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2AB-6BC1-4029-8476-EEEF7793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EA0-16F2-4642-94DF-53320027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BB0-392C-4A9E-A931-C55DE1E5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039-B6C0-4616-9FBC-D5AC6325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318-25E2-42D1-891D-5642AE87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5754-1488-4601-9EEA-CB117945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946-BEC8-40B0-8955-112B4820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5E0-AFF4-422A-8D7E-7D8AE8B5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110F-67B2-4F8A-B5DD-37841760F1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0574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 of </a:t>
            </a:r>
            <a:br>
              <a:rPr sz="6000"/>
            </a:b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sease Frequency-</a:t>
            </a:r>
            <a:br>
              <a:rPr sz="6000"/>
            </a:b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isk</a:t>
            </a:r>
            <a:br>
              <a:rPr sz="6000"/>
            </a:b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39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2968560"/>
            <a:ext cx="74678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72680" y="2438280"/>
            <a:ext cx="589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stimating Ris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396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88920" y="5181480"/>
            <a:ext cx="77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ly, CI is not equivalent to Individual Ris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ut these two terms are often used interchangeab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487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5562720" cy="2438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3880" y="990720"/>
            <a:ext cx="6172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152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1752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96440" cy="5333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5867280"/>
            <a:ext cx="69343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5120" y="2362320"/>
            <a:ext cx="707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hifting the Cohor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10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162920" cy="4498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7160" y="5257800"/>
            <a:ext cx="780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at if we allow subjects to enter the coh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fterthe start of the stud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905120"/>
            <a:ext cx="17524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7162560" cy="4952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029200" y="990720"/>
            <a:ext cx="6094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259380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238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90720" y="3429000"/>
            <a:ext cx="7238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315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31520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7315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467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467480" cy="2689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74674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 = # of new cases during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 = # of disease-free subjects at start of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easures the frequency of addition of new cases of  disease and is always calculated for a given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514600" cy="1901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25189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859360" y="394128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st common way to estimate ri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lways a propo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es a fixed co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 brief specified periods of time, e.g. an outbreak, commonly called an Attack “R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eware of at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mula does not reflect continually changing population size for dynamic coh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oes not allow subjects to be followed for different time peri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705360" cy="2819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6705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2T17:26:53Z</dcterms:modified>
  <cp:revision>177</cp:revision>
  <dc:subject/>
  <dc:title>Slide 1</dc:title>
</cp:coreProperties>
</file>